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F0C32-705C-41E7-909B-EAF195CA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BA4A9-7112-40CB-A0B4-07AF5E86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DA3BF-C00C-44E0-8885-8AA2F5CA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88219-80B7-4B19-B53E-4E8EC37B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B023-6C61-497C-A5F6-40126523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5869-44C5-4616-B919-310BEE90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1DE7-902E-4C9E-8049-3B4E3054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4324-6430-4586-956B-5151FC6A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F5BF-3BF7-40BE-A86B-076F302E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2B39-2633-4885-AE84-60A1B704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DF6B-FA18-4E7A-B210-BCA68EBE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CB86A-4CC5-4035-BF41-DAF96FEA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4652-471E-49FC-9B02-AD6FF41D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EA4F-607A-402F-9F79-0B723AC2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5F89-CBB4-4801-91B5-26619BD7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8D7A-2E62-4979-B478-8C00F3DA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0A53-4BB6-42C3-A250-7570B371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2FF45-7746-4A3C-8D6A-5D9FA391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0068-2C2E-446F-9B8B-B55A5D22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C18F3-C674-4348-AFFE-C5B3294A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CD77F-A8BA-4934-A30B-03954BE7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375AB-83FA-47D5-9E8E-C8AC200C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8B7DD-F0C3-4635-8996-C2A03A39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22C63-8D3F-48AE-942B-F913667C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B317-B1D9-417C-AF8D-5E9984B7DB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E459-31B9-455A-BB69-03764843CDF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A5C7-9F89-4D26-8501-8CD1F1C43BF9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4DA0-F71A-46E2-9214-6DD9DBBCDC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82DA-A0FD-4849-B6B9-FE6D79AB76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14C2-2DD8-4F2E-9023-88CD7755ED20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BÀI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ÌNH BÀY BÁO CÁ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ame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02B9-5DE1-4616-B3C8-E47D031772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2A57-B423-41AF-A803-9F516C60B6D9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  </a:t>
            </a:r>
            <a:r>
              <a:rPr b="1" lang="en-US" sz="2400" spc="-1" strike="noStrike">
                <a:solidFill>
                  <a:srgbClr val="000029"/>
                </a:solidFill>
                <a:latin typeface="VNI-Times"/>
              </a:rPr>
              <a:t>BAÙO CAÙ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Veà vieäc . . . . . . .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Kính gôûi: ………………………………………………………………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môû ñaàu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Ñaëc ñieåm tình hình; Nhieäm vuï ñöôïc giao; Thuaän lôïi khoù khaê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noäi dung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Kieåm ñieåm nhöõng vieäc ñaõ laøm ñöôïc, nhöõng toàn taïi cuï theå, nguyeân nhaân chuû quan - khaùch quan; Ñaùnh giaù keát quaû keøm theo soá lieäu thöïc teá (ñaït bao nhieâu % chæ tieâu, keá hoaïch ñaõ ñeà 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keát thuùc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Muïc tieâu, nhieäm vuï saép tôùi; Caùc bieän phaùp thöïc hieän; Kieán nghò, ñeà xuaát vôùi caáp treâ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i="1" lang="en-US" sz="2000" spc="-1" strike="noStrike">
                <a:solidFill>
                  <a:srgbClr val="000029"/>
                </a:solidFill>
                <a:latin typeface="VNI-Times"/>
              </a:rPr>
              <a:t>Nôi nhaän: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                                               QUYEÀN HAÏN, CHÖÙC VUÏ NGÖÔØI KY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-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…………………………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-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Löu VT, PHC (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62520" y="2895480"/>
            <a:ext cx="114300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0" y="0"/>
            <a:ext cx="34290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ÊN CQ, TC CẤP TRÊN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ÊN CƠ QUAN, TỔ CHỨC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BC-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3429000" y="0"/>
            <a:ext cx="57150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.HCM, ngày … tháng … năm 2013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1066680" y="990720"/>
            <a:ext cx="114300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4724280" y="1066680"/>
            <a:ext cx="312444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D33B-AA88-48A3-AE20-F424F2A5C1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71FA-1FE6-4EB1-A036-9AA4D06715C2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1905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Neâu caùc yeâu caàu cuûa baùo caù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Caáu truùc cuûa baùo caùo vaø nhöõng noäi dung chính cuûa baùo caù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0" name="Horizontal Scroll 5"/>
          <p:cNvSpPr/>
          <p:nvPr/>
        </p:nvSpPr>
        <p:spPr>
          <a:xfrm>
            <a:off x="380880" y="152280"/>
            <a:ext cx="8382240" cy="990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ÂU HỎI ÔN TẬP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533520" y="4191120"/>
            <a:ext cx="8153280" cy="21333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Soaïn Baùo caùo veà hoaït ñoäng cuûa lôùp em naêm hoïc vöøa qua gôûi Phoøng Quaûn lyù HSSV&amp;TTGD?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2" name="Horizontal Scroll 8"/>
          <p:cNvSpPr/>
          <p:nvPr/>
        </p:nvSpPr>
        <p:spPr>
          <a:xfrm>
            <a:off x="380880" y="3276720"/>
            <a:ext cx="8382240" cy="9903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ÀI TẬP (30p)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2048-E23F-4041-8DBC-4A26445D4C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89F6-8C92-4109-AA26-C8CF2BAC8793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9"/>
                </a:solidFill>
                <a:latin typeface="VNI-Times"/>
              </a:rPr>
              <a:t>BAÙO CAÙO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Veà vieäc toång keát naêm hoïc 2010 - 2011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Kính gôûi: Phoøng Quaûn lyù HSSV &amp; TTGD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môû ñaàu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Nhaän ñònh chung veà ñaëc ñieåm tình hình cuûa lôùp; Thuaän lôïi khoù khaên cuûa lôùp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noäi dung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Kieåm ñieåm keát quaû hoaït ñoäng cuûa lôùp trong 3 lónh vöïc: Hoïc taäp, reøn luyeän, tham gia coâng taùc xaõ hoäi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- Nhöõng vieäc ñaõ laøm ñöôïc, nhöõng toàn taïi cuï theå, nguyeân nhaân chuû quan - khaùch quan; Ñaùnh giaù keát quaû keøm theo soá lieäu thöïc teá (ñaït bao nhieâu % chæ tieâu, keá hoaïch ñaõ ñeà ra)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r>
              <a:rPr b="1" lang="en-US" sz="2000" spc="-1" strike="noStrike" u="sng">
                <a:solidFill>
                  <a:srgbClr val="000029"/>
                </a:solidFill>
                <a:uFillTx/>
                <a:latin typeface="VNI-Times"/>
              </a:rPr>
              <a:t>Phaàn keát thuùc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Ñeà xuaát, kieán nghò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80880" y="5618160"/>
          <a:ext cx="8458200" cy="1011240"/>
        </p:xfrm>
        <a:graphic>
          <a:graphicData uri="http://schemas.openxmlformats.org/drawingml/2006/table">
            <a:tbl>
              <a:tblPr/>
              <a:tblGrid>
                <a:gridCol w="5334120"/>
                <a:gridCol w="31240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Nôi nhaä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LÔÙP TRÖÔÛ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29"/>
                        </a:buClr>
                        <a:buFont typeface="VNI-Time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Phoøng QLHSSV&amp;TTGD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>
                        <a:buClr>
                          <a:srgbClr val="000029"/>
                        </a:buClr>
                        <a:buFont typeface="VNI-Time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VNI-Times"/>
                          <a:ea typeface="Times New Roman"/>
                        </a:rPr>
                        <a:t>Lö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Rectangle 8"/>
          <p:cNvSpPr/>
          <p:nvPr/>
        </p:nvSpPr>
        <p:spPr>
          <a:xfrm>
            <a:off x="0" y="0"/>
            <a:ext cx="34290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OA QTKD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ỚP …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BC-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3429000" y="0"/>
            <a:ext cx="57150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.HCM, ngày … tháng … năm 2013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4724280" y="914400"/>
            <a:ext cx="312444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4038480" y="2362320"/>
            <a:ext cx="114300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1143000" y="762120"/>
            <a:ext cx="1143000" cy="0"/>
          </a:xfrm>
          <a:prstGeom prst="line">
            <a:avLst/>
          </a:prstGeom>
          <a:ln w="1908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35A4-1B16-4686-8661-51E5632075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8B37-269E-4169-B7D4-C48021DEBE00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051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Khái niệm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Yêu cầu của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Phân loại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Cấu trúc của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</a:rPr>
              <a:t>Phương pháp soạn báo c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Horizontal Scroll 5"/>
          <p:cNvSpPr/>
          <p:nvPr/>
        </p:nvSpPr>
        <p:spPr>
          <a:xfrm>
            <a:off x="380880" y="18576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ỘI DUNG BÀI GIẢNG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7AC4-5DC0-4DA6-A907-FD58EF588B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D460-91C4-49C1-B51A-712851CD8FCC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Vaên baûn haønh ch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Chæ duøng cho CQ, TC caáp döôù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Noäi dung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Phaûn aùnh söï vieäc, hoaït ñoäng cuûa CQ, TC trong moät khoaûng thôøi gian cuï theå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Chöùc naêng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Giuùp CQ, TC caáp treân ñaùnh giaù ñöôïc tình hình thöïc teá, kòp thôøi ñeà ra chính saùch, bieän phaùp quaûn lyù phuø hôï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9" name="Horizontal Scroll 5"/>
          <p:cNvSpPr/>
          <p:nvPr/>
        </p:nvSpPr>
        <p:spPr>
          <a:xfrm>
            <a:off x="380880" y="33480"/>
            <a:ext cx="838224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 KHÁI NIỆM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343B-AE04-4925-A721-1494EE6315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7A6C-39F6-446E-9EE0-CD9202B79F3B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Trung thöïc, khaùch quan, chính xaùc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Chi tieát, soá lieäu phaûi ñuùng thöïc teá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Cuï theå, coù troïng taâm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Giuùp caáp treân ñaùnh giaù ñuùng tình hình thöïc teá ñeå ban haønh caùc quyeát ñònh quaûn ly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Kòp thôøi, nhanh choùng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Vì baùo caùo phuïc vuï coâng taùc quaûn lyù, ñieàu haø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Horizontal Scroll 5"/>
          <p:cNvSpPr/>
          <p:nvPr/>
        </p:nvSpPr>
        <p:spPr>
          <a:xfrm>
            <a:off x="380880" y="10944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YÊU CẦU CỦA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167D-2A30-46F2-9620-26BDD01AF4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1867-A1B9-47A1-BDCD-DE137FCD7726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76320" y="2057400"/>
            <a:ext cx="2590560" cy="129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Coâng taù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838080" y="3581280"/>
            <a:ext cx="2819520" cy="1219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Chuyeân ñeà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5943600" y="2057400"/>
            <a:ext cx="3048120" cy="1219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Chuyeân moâ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600200" y="685800"/>
            <a:ext cx="5943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3. PHAÂN LOAÏI BAÙO CAÙ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3276720" y="4419720"/>
            <a:ext cx="2743200" cy="1218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Ch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5791320" y="3581280"/>
            <a:ext cx="2743200" cy="1219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</a:rPr>
              <a:t>Thöïc teá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4" name="Line 14"/>
          <p:cNvSpPr/>
          <p:nvPr/>
        </p:nvSpPr>
        <p:spPr>
          <a:xfrm flipH="1">
            <a:off x="2666880" y="1828800"/>
            <a:ext cx="1905120" cy="91440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5" name="Line 15"/>
          <p:cNvSpPr/>
          <p:nvPr/>
        </p:nvSpPr>
        <p:spPr>
          <a:xfrm flipH="1">
            <a:off x="2971440" y="1828800"/>
            <a:ext cx="1600200" cy="182880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4541760" y="1828800"/>
            <a:ext cx="106560" cy="259092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Line 17"/>
          <p:cNvSpPr/>
          <p:nvPr/>
        </p:nvSpPr>
        <p:spPr>
          <a:xfrm>
            <a:off x="4495680" y="1828800"/>
            <a:ext cx="1676520" cy="190512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4495680" y="1828800"/>
            <a:ext cx="1447920" cy="762120"/>
          </a:xfrm>
          <a:prstGeom prst="line">
            <a:avLst/>
          </a:prstGeom>
          <a:ln w="28440">
            <a:solidFill>
              <a:srgbClr val="0000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DBB7-FC6F-40D1-83BD-C4DF995955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5A95-DF27-4645-9857-078D4123BDF9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0000"/>
          </a:bodyPr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coâng taùc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Sô keát, toång keá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chuyeân ñeà, vụ việc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Moät vaán ñeà trong hoaït ñoäng cuûa toå chöù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chuyeân moân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Taøi chính, thueá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chung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Ñeà caäp taát caû caùc maët hoaït ñoäng cuûa toå chöù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i="1" lang="en-US" sz="3600" spc="-1" strike="noStrike">
                <a:solidFill>
                  <a:srgbClr val="000029"/>
                </a:solidFill>
                <a:latin typeface="VNI-Times"/>
              </a:rPr>
              <a:t>Baùo caùo thöïc teá: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Thöïc teá coâng taùc vaø ñeà xuaát bieän phaùp giaûi quyeát vaán ñeà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Horizontal Scroll 5"/>
          <p:cNvSpPr/>
          <p:nvPr/>
        </p:nvSpPr>
        <p:spPr>
          <a:xfrm>
            <a:off x="380880" y="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 PHÂN LOẠI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231D-CAA0-4E9D-A8F2-0888457BB6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4190-24E1-403F-9FAA-A1E8057DB8E1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153280" cy="1295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hiệm vụ được giao, thuận lợi, khó khăn trong thực hiệ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8" name="Horizontal Scroll 5"/>
          <p:cNvSpPr/>
          <p:nvPr/>
        </p:nvSpPr>
        <p:spPr>
          <a:xfrm>
            <a:off x="380880" y="0"/>
            <a:ext cx="8382240" cy="11430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 CẤU TRÚC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9" name="Horizontal Scroll 6"/>
          <p:cNvSpPr/>
          <p:nvPr/>
        </p:nvSpPr>
        <p:spPr>
          <a:xfrm>
            <a:off x="457200" y="1100160"/>
            <a:ext cx="25146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ở đầ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609480" y="2819520"/>
            <a:ext cx="807732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ết quả thực hiện; công việc đã làm được, chưa làm được; nguyên nhân chủ quan, khách qua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Horizontal Scroll 8"/>
          <p:cNvSpPr/>
          <p:nvPr/>
        </p:nvSpPr>
        <p:spPr>
          <a:xfrm>
            <a:off x="533520" y="2666880"/>
            <a:ext cx="2514600" cy="8812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609480" y="5029200"/>
            <a:ext cx="80773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Mục tiêu, nhiệm vụ mới, biện pháp thực hiện, kiến nghị cấp trê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Horizontal Scroll 10"/>
          <p:cNvSpPr/>
          <p:nvPr/>
        </p:nvSpPr>
        <p:spPr>
          <a:xfrm>
            <a:off x="533520" y="4910040"/>
            <a:ext cx="2514600" cy="8812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ết thú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4566-2D7C-4C0E-8C13-916BFE2C11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EFA1-35FB-440B-91AE-54F01B447CA3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95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Xaùc ñònh muïc ñích cuûa baùo caù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Thu thaäp döõ lieäu caàn baùo caùo: Ñoái chieáu thoâng tin ñeå kieåm chöùng ñoä xaùc thöïc cuûa thoâng t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Saép xeáp, toång hôïp döõ lieäu baùo caù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Tổng kết hoaït ñoäng, kinh nghieäm, yù kieán caàn ñeà xuaát leân caáp treâ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8" name="Horizontal Scroll 5"/>
          <p:cNvSpPr/>
          <p:nvPr/>
        </p:nvSpPr>
        <p:spPr>
          <a:xfrm>
            <a:off x="380880" y="0"/>
            <a:ext cx="8458200" cy="11430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 PHƯƠNG PHÁP SOẠN THẢ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9" name="Horizontal Scroll 6"/>
          <p:cNvSpPr/>
          <p:nvPr/>
        </p:nvSpPr>
        <p:spPr>
          <a:xfrm>
            <a:off x="457200" y="1100160"/>
            <a:ext cx="830592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1. CHUẨN BỊ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D65B-B2C2-46A3-881C-9FBB213F31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341A-7092-4109-B864-FF962834CF82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076960" cy="1752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Coâng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vieäc ñaõ laøm ñöôïc, chöa laøm ñöôï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Nguyeân nhaân chuû quan, khaùch q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Bieän phaùp thöïc hieän coâng vieäc coøn laï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4" name="Horizontal Scroll 5"/>
          <p:cNvSpPr/>
          <p:nvPr/>
        </p:nvSpPr>
        <p:spPr>
          <a:xfrm>
            <a:off x="380880" y="0"/>
            <a:ext cx="8382240" cy="990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2. VIẾT BÁO CÁO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5" name="Horizontal Scroll 6"/>
          <p:cNvSpPr/>
          <p:nvPr/>
        </p:nvSpPr>
        <p:spPr>
          <a:xfrm>
            <a:off x="457200" y="914400"/>
            <a:ext cx="82296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ÁO CÁO SƠ KẾT (6 THÁNG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533520" y="4191120"/>
            <a:ext cx="8076960" cy="2209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Toång hôïp nhieäm vuï ñaõ hoaøn thaønh, chöa hoaøn thaønh (keát quaû cuï theå)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Nguyeân nhaân chưa hoaøn thaønh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◙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 </a:t>
            </a:r>
            <a:r>
              <a:rPr b="0" lang="en-US" sz="3200" spc="-1" strike="noStrike">
                <a:solidFill>
                  <a:srgbClr val="000029"/>
                </a:solidFill>
                <a:latin typeface="VNI-Times"/>
              </a:rPr>
              <a:t>Phöông höôùng nhieäm vuï cho năm sau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7" name="Horizontal Scroll 9"/>
          <p:cNvSpPr/>
          <p:nvPr/>
        </p:nvSpPr>
        <p:spPr>
          <a:xfrm>
            <a:off x="457200" y="3429000"/>
            <a:ext cx="82296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ÁO CÁO TỔNG KẾT (12 THÁNG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3-08-10T08:27:38Z</dcterms:modified>
  <cp:revision>306</cp:revision>
  <dc:subject/>
  <dc:title>Chương 9.4</dc:title>
</cp:coreProperties>
</file>